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8F3-506A-435C-B799-F884A55F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64B-1776-444D-AAC1-E25D1E18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1A6-C033-4E91-BDE9-D1278C8F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CF9-A230-4C1B-BF67-3DA542C1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DCAB-971A-4E36-A6EA-B4B0E3EA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CC0A-F8E8-4C21-B653-52C6B1AB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52AB-1AB2-4A7D-93B4-FD0B6209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5F10-7C83-4967-9D31-6243CBFD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890C-C11C-4603-A058-633EBF6F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88E3-23BE-42B3-8403-B5BACE82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DB49-C8F6-4C84-B520-E2F85E66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A2B-D723-48D5-B812-57FD8EB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AE96-2572-4181-BD6E-5FA557D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9C2D-2979-4C99-8648-D2A1524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C9E6-45CA-408C-945B-BDEA10F4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6266-2274-449F-B162-44A155BB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989B-FD5B-48F4-A04B-D9929C2E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642-0A92-4DF4-BD46-49B904B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42C-7177-4CF5-B5D4-9C476E52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EAD-8181-494E-8A5F-1BAA730A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469-8285-4F7E-8D26-E1E4B82D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B16-C6C2-4A30-8E45-C0DA0AE1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27B-0021-4321-9CB1-216CBEDD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90D-8833-42FF-8453-7D049023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79A6-F972-48CE-BBB7-4C9A6BCD6B2B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خميس 30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3B90-ADE0-45E2-83B6-7F416F127B57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350B-E3A8-46F5-B2AD-A4A956375840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خميس 30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30CC-BC17-4505-BF39-1D64E6BE096A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9623-B491-4D60-B1F6-7A532418DEB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449E5EC-FFF2-45B6-969D-339AEAAD0B1F}" type="datetime3">
              <a:rPr lang="en-US"/>
              <a:t>July 30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F42-B075-4F87-9BD6-E1D0546974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1DCE0-599A-4AF3-8DA3-D60E83C5FE41}" type="datetime3">
              <a:rPr lang="en-US"/>
              <a:t>July 30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578-4592-418F-9A3E-05E7464C1D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F2863-CA9A-43AE-9E3B-5C4E4DEAC22A}" type="datetime3">
              <a:rPr lang="en-US"/>
              <a:t>July 30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C97-BEF4-490C-ABE1-CC3EB4F808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06B1C-50A6-4B0B-B65A-2B8E2EFC1F6C}" type="datetime3">
              <a:rPr lang="en-US"/>
              <a:t>July 30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E2C-EF12-4D1B-9292-ED187A6898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42F59-C12B-4141-97BE-7562E9F465BA}" type="datetime3">
              <a:rPr lang="en-US"/>
              <a:t>July 30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FED-DFE2-4E22-856D-C7CCC7F160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22DE0-2513-4560-8089-15D89C6A3FC2}" type="datetime3">
              <a:rPr lang="en-US"/>
              <a:t>July 30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084-4D31-433E-924D-E8B35F8DE9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12FB0-5E89-4FBF-B7D6-B906AE2EAECD}" type="datetime3">
              <a:rPr lang="en-US"/>
              <a:t>July 30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D62-2DE9-4AF9-9C9D-94154FBEEE5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D54E3-11FA-48D2-AC19-788281D646C6}" type="datetime3">
              <a:rPr lang="en-US"/>
              <a:t>July 30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